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5BE-CC99-46BA-9542-B88F71F3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BD2-7ABC-47E0-B918-EC8BA3A8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2B5-C39B-45B8-9F0E-335BE4F5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9FE-6C05-459B-8810-EAA166A8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8252-36B1-402E-83C3-91AAB4AC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F1D9-BD95-4132-8149-6782E47B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D226-F1E2-4490-B086-124DF1DF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A983-3453-4170-A24A-2DA9C0BA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033C-3A3C-4AC1-93FA-9DC969CE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4397-9D9E-4F3A-A67E-AD19F58C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A3A9-190E-4C93-94B3-35D1169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605-8330-4255-A67B-01C8E340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FC40-1274-454D-9D5B-92489DD3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2982-1BDE-4C81-9193-BD4D9CAE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A272-FAC8-4F31-B8D8-26123BD9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DA5E-99DE-4608-AB0D-D1EB94BE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2A14-EE0E-46D2-98AB-73C7758A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31F-308E-4E70-B315-63D596AB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A1E-C135-4876-8427-5FE558E1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6B0-3BD2-42C0-ABD2-0CCBF50B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E16-C206-4122-8F9B-2D70D5A7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505-6217-4890-995C-B84F10D5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9F0-5902-496C-9FAA-04186E9A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7A0-3716-436D-B2D9-4EC49046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211C-7B74-4CDC-A91D-DD68A332D76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5B25-44ED-4D68-BA93-F3A845F2006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zdaf.ro/poveste-de-toamna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853f35"/>
                </a:solidFill>
                <a:latin typeface="Arial"/>
              </a:rPr>
              <a:t>Noapte de toamnă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2f1311"/>
                </a:solidFill>
                <a:latin typeface="Arial"/>
              </a:rPr>
              <a:t>George Toparceanu</a:t>
            </a:r>
            <a:br>
              <a:rPr sz="3200"/>
            </a:br>
            <a:r>
              <a:rPr b="1" lang="ro-RO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asa 11B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li</a:t>
            </a:r>
            <a:r>
              <a:rPr b="0" lang="ro-RO" sz="3200" spc="-1" strike="noStrike">
                <a:solidFill>
                  <a:srgbClr val="2f1311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anu Angelic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e</a:t>
            </a:r>
            <a:r>
              <a:rPr b="0" lang="ro-RO" sz="3200" spc="-1" strike="noStrike">
                <a:solidFill>
                  <a:srgbClr val="2f1311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 Alin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ult</a:t>
            </a:r>
            <a:r>
              <a:rPr b="0" lang="ro-RO" sz="3200" spc="-1" strike="noStrike">
                <a:solidFill>
                  <a:srgbClr val="2f1311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scu Sab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Murmur lung de streşini, risipite şoapte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Cresc de pretutindeni şi se pierd în noapte.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Rareori prin storuri o lumină scapă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De-mi aprinde-n cale reci oglinzi de apă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Şi-mi trimite-n faţă raza ei răsfrântă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Ploaia bate-n geamuri, streşinile cântă.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Dar treptat, cu larmă potolită scade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Cântecul acestui tremur de cascade.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Tot mai des în preajmă umbre vii răsar,</a:t>
            </a: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Ploaia peste case pică tot mai ra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Şi-n grămezi de neguri apele se strâng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Să sărute urma paşilor de-acum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024360" cy="16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Lumea-ntreagă doarme, streşinile plâng.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Până când o rază de argint în zare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Lămurind pe boltă straturi de ninsoare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Lin desface umbra şi de crengi anină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Scânteieri albastre, boabe de lumină.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Iar acum din taina cerului deschis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Peste firea mută cad lumini de vis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Şi-n troiene albe norii se desfac…</a:t>
            </a:r>
            <a:br>
              <a:rPr sz="1400"/>
            </a:b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Dar când iese luna, streşinile tac.</a:t>
            </a:r>
            <a:br>
              <a:rPr sz="1400"/>
            </a:b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Dormi, iubire dulce!…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Numai eu întârziu, singur pe cărare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Farmecul acestei clipe călătoare…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Gândurile mele vin să te deştepte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Din pridvorul tainic să cobori pe trepte.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Să cobori în toamna limpede şi rece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Şi, visând cu mine clipa care trece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Să-mi sporeşti tristeţea ceasului târziu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Când, străin de tine, sufletu-mi pustiu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Va porni zadarnic, rătăcind pe drum,</a:t>
            </a:r>
            <a:br>
              <a:rPr sz="1400"/>
            </a:b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Să sărute urma paşilor de-acum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1752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Toamna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572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68510"/>
                </a:solidFill>
                <a:uFillTx/>
                <a:latin typeface="Arial"/>
                <a:hlinkClick r:id="rId1"/>
              </a:rPr>
              <a:t>Poveste de toamna</a:t>
            </a:r>
            <a:r>
              <a:rPr b="0" lang="en-US" sz="4000" spc="-1" strike="noStrike" u="sng">
                <a:solidFill>
                  <a:srgbClr val="853f35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69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   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Intr-o duminică după-amiază, intr-o toamnă frumoasă şi caldă, ieşisesi din casă  hotărât să-ţi scoţi gândurile la plimbare. Te-ai  indreptat către parcul de langă casa bunicilor şi cu ele de mână, te-ai aşezat pe o băncuţă retrasă, să-ţi tragi sufletul, chinuit de atâtea frământări. Inchizi ochii, incerci să te eliberezi de tine, să-ţi goleşti mintea, să-ţi uiţi sentimentele, să încetezi să fii uman. Dar iţi apare un surâs pe buze când o rază de soare iţi mângâie jucăuş chipul, printre ramurile indoliate. Te-ai inconjurat de un adevărat cimitir de frunze, oriunde ai privi, ele zac moarte lângă tine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      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Şi din toate câte sunt, ridici in mâini una singură. Intreagă sau strivită de alte frunze, respirând viaţă prin nervuri sau deja chinuită de apropierea morţii, nici nu mai contează, e frunza ta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  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 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Te-ai intors acasă. Obosit, inainte de culcare, ţi-ai uitat frunza pe birou. Sora ta o consideră doar o altă frunză pentru ierbarul tău, părinţii nici nu au observat-o in palma ta cand te-ai intors acasă, au fost mai ingrijoraţi că ai intârziat la masă, cât despre bunici… Poate nici nu mai ai bunicii lângă tine, să ştii dacă au observat frunza 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Tu ai ştiut că frunza asta e specială. Poate din simplul motiv că e a ta, ai ştiut că are o poveste şi motive pentru care s-a sinucis. Deşi ceilalti ţi-ar spune că nu merită, tu eşti convins că e deosebită.Şi o păstrezi pentru că ai ales-o şi pentru că este a ta. Incepi să te intrebi dacă in parc, lângă băncuţă unde te-ai odihnit, nu erau alte frunze mai frumoase, mai mari sau mai colorate? Hmm … cam târziu pentru regrete. Te frământă şi întrebarea dacă frunza ta e mulţumită că ai ales-o tocmai tu? Oare îşi dorea pe altcineva, te visa altfel? Te considera suficient de bun pentru a o păstra? Dacă intr-o zi iţi va arunca in faţă durerosul adevăr că nu are sentimente pentru tine?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     </a:t>
            </a: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E târziu…Şi-ţi place să crezi că merită, deşi ştii in adâncul fiinţei tale că nu merge. Că frunza se va ofili, că vei rămâne singur, că ei nu i-a păsat nicicum că visele tale purtau coloritul ei. E târziu şi te amăgeşti că va fi frumos, cât va fi, că vei ramâne cu amintiri de neuitat, că asta e tot ce contează. Te fură somnul, gândurile ţi s-au imprăştiat  printre vise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     </a:t>
            </a: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Pe birou, nervurile frunzei crapă. Şi tu rămâi singur, amăgit de visele tale, preocupat de propriile visuri, sperând că merită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      </a:t>
            </a:r>
            <a:r>
              <a:rPr b="0" lang="ro-RO" sz="1400" spc="-1" strike="noStrike">
                <a:solidFill>
                  <a:srgbClr val="2f1311"/>
                </a:solidFill>
                <a:latin typeface="Arial"/>
              </a:rPr>
              <a:t>Acum nu mai e noapte, toamna s-a dus demult, dar tu continui să te invălui in singurătate..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31920" y="596880"/>
            <a:ext cx="545148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Toamna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Răsună din margini de târg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Un bangat puternic de armă;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E toamnă... metalic s-aud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Gorniştii, in fund, la cazarmă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S-aude şi-un clopot de scoală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E vânt, şi-i pustiu, dimineata;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Hârtii şi cu frunze, de-a valma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Fac roata-n vârteje, pe-o piaţă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Se uită in zări catedrala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Cu turnu-i sever si trufaş;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Grădina oraşului plânge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Şi-aruncă frunzişu-n oraş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Şi vine,ca-n vremi de demult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Din mărgini, un bucium de-alarmă,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E toamnă... metalic s-aud</a:t>
            </a:r>
            <a:br>
              <a:rPr sz="1600"/>
            </a:b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Gorniştii, in fund, la cazarmă.</a:t>
            </a:r>
            <a:br>
              <a:rPr sz="1600"/>
            </a:b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2f1311"/>
                </a:solidFill>
                <a:latin typeface="Arial"/>
              </a:rPr>
              <a:t>Autor</a:t>
            </a:r>
            <a:r>
              <a:rPr b="0" lang="ro-RO" sz="1600" spc="-1" strike="noStrike">
                <a:solidFill>
                  <a:srgbClr val="2f1311"/>
                </a:solidFill>
                <a:latin typeface="Arial"/>
              </a:rPr>
              <a:t>: George Bacovia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26920" y="2085840"/>
            <a:ext cx="56502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0:21:42Z</dcterms:created>
  <dc:creator>elev</dc:creator>
  <dc:description/>
  <dc:language>en-US</dc:language>
  <cp:lastModifiedBy>elev</cp:lastModifiedBy>
  <dcterms:modified xsi:type="dcterms:W3CDTF">2010-11-08T07:19:14Z</dcterms:modified>
  <cp:revision>5</cp:revision>
  <dc:subject/>
  <dc:title>Noapte de toamna</dc:title>
</cp:coreProperties>
</file>